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4D7-2D1F-4ABA-92FD-86037A60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9A5-D8F3-4B2D-9516-32C1E9F3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A8C-EBE4-4BFA-B7CA-868DBEA2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658-771E-4076-BCCF-7A52A88F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032-787B-4DF4-A141-E783AE2C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0F4-400A-4FAB-9A67-B34CF344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134-4686-49BA-8D3A-C04694AE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497-A8FA-427A-8CD1-A70C65B7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EBF-2FF9-4843-8B2A-A7630A5D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C1F-77A5-4950-B1BE-03403559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437-1029-474F-8D87-4788B2B1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E2F-D328-4E35-90D4-A04F9FC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4C63-84C5-40E8-9A34-93FD1C26E6F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Rural Depopul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Voluntary 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luntary Mi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ost common example of voluntary migration is the movement of people from rural areas to urban area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is called rural to urban migration and occurs in every country in the world, as they become more urbanised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EDC's the massive movement of people from rural areas to the cities has occurred for many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has caused rural areas to become depopulated and has led to the decline of services in these rural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like village shops and post offices have often found that they do not have enough customers to allow them to remain op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Origin: Push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w job opportunities in the rural are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w friends left as many have already moved to the citi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w entertainment or leisure activities availab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w wages in agricultural wor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ten difficult to get out to see friends and go to social eve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estination: Pull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100" spc="-1" strike="noStrike">
                <a:solidFill>
                  <a:srgbClr val="000000"/>
                </a:solidFill>
                <a:latin typeface="Calibri"/>
              </a:rPr>
              <a:t>Many job opportunit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hance to meet up with friends again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ore leisure and entertainment opportuniti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Better shops and services, offering a wide range of good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prospect of higher paid work, meaning a better standard of living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asily accessible to friends, social events and work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mmuter Vill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EDC's a counter movement has begun to occur however, with people moving out to the countryside to get away from the pollution and congestion of the c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often than not they work in the urban areas though, commuting in every mo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has led to rural villages changing from farming communities to commuter villages, which are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rmitory villa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LEDC's the movement to urban areas is even greater than in MEDC'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move to the cities because they believe that they will be more able to get employment and have a better way of lif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sometime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"the bright lights syndrome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is is not always the case as they often end up living in shanty towns and finding occasional, poorly paid 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pite this the in-migration continues rapid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4:46:19Z</dcterms:created>
  <dc:creator>Dell_02</dc:creator>
  <dc:description/>
  <dc:language>en-US</dc:language>
  <cp:lastModifiedBy>Dell_02</cp:lastModifiedBy>
  <dcterms:modified xsi:type="dcterms:W3CDTF">2011-01-25T04:54:41Z</dcterms:modified>
  <cp:revision>1</cp:revision>
  <dc:subject/>
  <dc:title>Rural Depopulation</dc:title>
</cp:coreProperties>
</file>